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3B2D-5CBF-492B-A00C-0DFC70016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the effect of lack of nutrients to energy of mom and what the baby recie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F95A-6858-4FD5-9630-BFCD0152A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’s ability to do activities and breathlessness and lack to ba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542D-911B-4E80-A3E3-4FCFF94A6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ing, drop stuff, injury to self and ba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8C7-4378-497D-B1B7-AE1D4A69D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attack risk, fatigue, decreased blood to ba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FB1D-D429-42F7-82E0-0A3F9EB5B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sort of effects as tobacc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2D7A-F21E-4415-A142-E7DE8AC5F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F0F-2DE6-43F9-ACBE-13D8A957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15D-836C-42EC-9A60-6660C49A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440-24C9-472C-92C5-3EE531FD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A0F-FB83-4CCC-B1CC-3A2D3E0F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F29-66BD-4845-8AF6-69105816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5E8-92FC-40C7-87AE-0CF082C6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1F4-4FDD-451D-A1B4-0BB9999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F7F-8EE5-4465-9BB9-59E62F89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B1C-5199-4808-B981-B7212D40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14C-0757-402D-A7E2-934318B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35F-9FB0-4FDC-8466-25B7AEB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855-D608-483F-9E30-3D7AAF78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061-3735-465A-8765-63F8F2AA7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nal Effects of tobac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Decreases Nut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moking mom.jpg"/>
          <p:cNvPicPr/>
          <p:nvPr/>
        </p:nvPicPr>
        <p:blipFill>
          <a:blip r:embed="rId1"/>
          <a:stretch/>
        </p:blipFill>
        <p:spPr>
          <a:xfrm>
            <a:off x="2971800" y="3352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Inability to absorb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nal Effects of Mariju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2819520"/>
            <a:ext cx="5486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Lack of coordin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farm3.static.flickr.com/2500/3996629832_70a57d45ba.jpg"/>
          <p:cNvPicPr/>
          <p:nvPr/>
        </p:nvPicPr>
        <p:blipFill>
          <a:blip r:embed="rId1"/>
          <a:stretch/>
        </p:blipFill>
        <p:spPr>
          <a:xfrm>
            <a:off x="5715000" y="1752480"/>
            <a:ext cx="2905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ju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Increased Heart Rate/decreased 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ju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Decreas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03:29:14Z</dcterms:created>
  <dc:creator>Anna Lutz</dc:creator>
  <dc:description/>
  <dc:language>en-US</dc:language>
  <cp:lastModifiedBy>Anna Lutz</cp:lastModifiedBy>
  <dcterms:modified xsi:type="dcterms:W3CDTF">2010-04-13T02:53:46Z</dcterms:modified>
  <cp:revision>6</cp:revision>
  <dc:subject/>
  <dc:title>Maternal Effects of tobacco</dc:title>
</cp:coreProperties>
</file>